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5E9-8B0E-444E-8716-D6EAD245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FB1-40F2-4F4B-AB2E-253BE059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24F-A6B1-464D-B6D1-6F398D3E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EBF-FAA6-4901-87DE-E30B3170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090-E853-4E2E-AA3A-79769AE9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0393-D372-4441-8D35-5561FEC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7EF-66C0-4298-904F-D77C2DF5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76A4-5535-45DA-AFAC-FC9ACFA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1E6B-F263-472D-9C26-4C0F27F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18D2-A472-418E-9CEB-5EC9D487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2BF9-168C-4021-AB8C-5557C0D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DD9-860F-4AA6-9691-ACEEE55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D18-5628-4C78-AB11-CD60A16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F6CF-5906-4004-8391-E16AB3B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3DB2-7759-4946-987A-18C5F8DD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F5EB-6FC1-4E5D-93F0-C07EFAC3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E86-6670-4BC9-AADC-2D4EF2D3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7D6-3B80-4B70-803B-71D4DC6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20B-6BB0-4BDD-8A61-5CC199F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36A-605D-492A-9A88-14E36597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AA5-AA13-4A42-8357-72DBD6B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297-8889-4BA6-B36C-77BC6ABE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A94-D74D-4FD5-97E5-448F1B56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0DB-D638-4561-970F-FA3CBC4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01E9-97C6-49BC-9BA1-8EEA024E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urzedowy_w2_slajd_startowy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urzedowy_w2_slajd_wewnetrzny7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urzedowy_w2_slajd_startowy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100F-2FA4-49F2-887B-6C43559A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omorskie.eu/" TargetMode="External"/><Relationship Id="rId3" Type="http://schemas.openxmlformats.org/officeDocument/2006/relationships/hyperlink" Target="http://www.urzad.pomorskie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mbria"/>
              </a:rPr>
              <a:t>Gdańsk, 26 sierpnia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427640" y="2492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4360" y="213372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ambria"/>
              </a:rPr>
              <a:t>Aktualizacja PGO 2010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ambria"/>
              </a:rPr>
              <a:t>dla województwa pomorskiego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Wojewódzki plan gospodarki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odpadami zawi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środki służące zapobieganiu powstawania odpadów i ocen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ch użytecz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odzaj, ilość i źródła powstawania odp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odzaj i ilość odpadów poddanych poszczególnym procesom unieszkodliwiania, również w instalacjach położonych poza terytorium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odzaj i ilość odpadów poddanych poszczególnym procesom unieszkodliwiania, również w instalacjach położonych poza terytorium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stniejące systemy gospodarowania odpadami, w tym również zbierania odp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odzaj, rozmieszczenie i moc przerobowa instalacji do przetwarzania odp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dentyfikacja problemów w zakresie gospodarki odpa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alizę aktualnego stanu gospodarki odpadami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35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Wojewódzki plan gospodarki </a:t>
            </a: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odpadami zawiera c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0920" y="1484280"/>
            <a:ext cx="871380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gnozowane zmiany w zakresie gospodarki odpadami, w tym wynikające ze zmian demograficznych i gospodarczych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3120" y="24890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79280" y="3068640"/>
            <a:ext cx="85788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zyjęte cele w zakresie gospodarki odpadami z podaniem terminów ich osiągania, w tym cele dotyczące zapobiegania powstawaniu odpadów i ograniczania ilości odpadów komunalnych ulegających biodegradacji kierowanych na składowiska odpadów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648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Wojewódzki plan gospodarki </a:t>
            </a: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odpadami zawiera c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713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ziałania w zakresie gospodarki odpadami, wraz z określeniem planowanych technologii i metod postęp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ziałania w zakresie postępowania z odpadami powodującymi problem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 gospodarowaniu, w tym środki zachęcające do selektywnego zbierania bioodpadów w celu ich kompostowania oraz przetwarzania w sposób bezpieczny dla środowiska oraz życia i zdrowia lu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ozwiązania dotyczące olejów odpadowych i innych odpadów niebezpie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1125360"/>
            <a:ext cx="8640720" cy="109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Kierunki działań w zakresie zapobiegania powstawaniu odpadów oraz kształtowania systemu gospodarki odpadami, podejmowanych dla osiągnięcia przyjętych celów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Wojewódzki plan gospodarki </a:t>
            </a: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odpadami zawiera c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79280" y="2637000"/>
            <a:ext cx="84963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rmonogram, wykonawców i sposób finansowania zadań wynikających      z przyjętych kierunków działań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79280" y="3716280"/>
            <a:ext cx="84963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formację o strategicznej ocenie oddziaływania planu na środowisko, a w przypadku odstąpienia od jej przeprowadzenia - uzasadnieni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79280" y="6021360"/>
            <a:ext cx="8569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reszczenie w języku niespecjalistyczny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79280" y="1197000"/>
            <a:ext cx="856944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kreślenie kryteriów rozmieszczenia obiektów przeznaczonych do gospodarowania odpadami oraz mocy przerobowych przyszłych instalacji do przetwarzania odpadów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79280" y="4869000"/>
            <a:ext cx="81378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osób monitoringu i oceny wdrażania planu, pozwalający na określenie sposobu oraz stopnia realizacji celów i zadań zdefiniowanych w plani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Wojewódzki plan gospodarki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odpadami może zawiera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628640"/>
            <a:ext cx="871380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pis aspektów organizacyjnych związanych z gospodarowaniem odpadami,   w tym opis podziału odpowiedzialności pomiędzy podmioty publiczne                i prywatne zajmujące się gospodarowaniem odpadami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50920" y="3213000"/>
            <a:ext cx="871380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cenę użyteczności i przydatności stosowania instrumentów ekonomicznych     i innych instrumentów do rozwiązania problemów związanych z gospodarką odpadami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9280" y="4797360"/>
            <a:ext cx="87138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ane dotyczące kampanii informacyjnych i innych sposobów informowania społeczeństwa lub określonej grupy osób w zakresie gospodarki odpad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Wojewódzki plan gospodarki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odpadami ponadto okre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1413000"/>
            <a:ext cx="871380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dział na regiony gospodarki odpadami komunalnymi wraz ze wskazaniem gmin wchodzących w skład regionu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2637000"/>
            <a:ext cx="8713800" cy="109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gionalne instalacje do przetwarzania odpadów w poszczególnych regionach gospodarki odpadami komunalnymi oraz instalacje przewidziane do zastępczej obsługi regionów w przypadku awarii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03120" y="4000680"/>
            <a:ext cx="844560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lan zamykania instalacji niespełniających wymagań ochrony środowiska, których modernizacja nie jest możliwa z przyczyn technicznych lub nie jest uzasadniona z przyczyn ekonomicznych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Ranga nowych Planów Gospodarki Odp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Cambria"/>
              </a:rPr>
              <a:t>Wojewódzki plan gospodarki odpadami, w części realizacyjnej, aktem prawa miejsc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raz z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mbria"/>
              </a:rPr>
              <a:t>uchwaleniem wojewódzkiego planu gospodarki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dpadami sejm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ojewództwa podejmuje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Cambria"/>
              </a:rPr>
              <a:t>uchwałę w sprawie jego wykonani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Uchwała jest aktem prawa miejsc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Cambria"/>
              </a:rPr>
              <a:t>Uchwała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w sprawie wykonania wojewódzkiego planu gospodar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dpadami określać będz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podział na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regiony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gospodarki odpadami wraz ze wskazaniem gmin wchodzących w skład regio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regionalne instalacje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do przetwarzania odpadów komunalnych i zastępczej obsługi region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regionalne instalacje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do przetwarzania odpadów komunalnych niespełniające wymagań ochrony środowiska,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których moderniz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nie jest możliwa z przyczyn technicznych lub nie jest uzasadniona z przyczyn ekonomi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Region gospodarki odpadami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Regionalna instalacja do przetwarzania odpad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gion gospodarki odpad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bszar liczący co najmniej 150 0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bszar gminy liczącej powyżej 500 000 mieszkań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gionalna instalacja do przetwarzania odpad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kład zagospodarowania odpadów o mocy przerobowej wystarczając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yjmowania i przetwarzania opadów z obszaru zamieszkanego przez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ajmniej 120 tys. mieszkańców zapewniający termiczne przekształc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ów l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66cc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chaniczno-biologiczne przetwarzanie odpadów komuna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66cc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zetwarzanie zebranych selektywnie odpadów zielonych i innych bioodpa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66cc"/>
              </a:buClr>
              <a:buFont typeface="Cambri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kładowanie odpadów powstających w procesie mechaniczno-biologicznego przetwarzania odpadów oraz pozostałości z sortowania przez okres nie krótszy niż 15 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Wybrane obowiązki w świetle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 zmian  ustawy o utrzymaniu…….</a:t>
            </a: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9280" y="980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Gminy ….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pewniają budowę, utrzymanie i eksploatację własnych lub wspólnych z innymi gminami: budowę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alnych instalacji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etwarzania odpadów komunal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ada gminy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jest obowiązana dostosować regulamin do wojewódzkiego planu gospodarki odpadami w terminie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6 miesięcy od dnia uchwalenia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ego pla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Wójt, burmistrz lub prezydent miasta określa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 specyfikacji … na odbiór odpadów w szczególności: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wymogi dotyczące przekazywania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ebranych zmieszanych odpadów komunalnych, odpadów zielonych oraz pozostałości z sortowania odpadów komunalnych przeznaczonych do składowania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do regionalnych instalacji do przetwarzania odpadów komunal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odmiot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bierający odpady komunalne od właścicieli nieruchomości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jest obowiązany do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…… przekazywania odebranych od właścicieli nieruchomości zmieszanych odpadów komunalnych, odpadów zielonych oraz pozostałości z sortowania odpadów komunalnych przeznaczonych do składowania do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alnej instalacji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etwarzania odpadów komunal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Wybrane obowiązki w świetle</a:t>
            </a: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 zmian  ustawy o utrzymaniu……cd.</a:t>
            </a:r>
            <a:r>
              <a:rPr b="1" lang="pl-PL" sz="4000" spc="-1" strike="noStrike">
                <a:solidFill>
                  <a:srgbClr val="0099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05228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Prowadząc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alną instalację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etwarzania odpadów komunalnych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jest obowiązany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zawrzeć umowę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a zagospodarowanie zmieszanych odpadów komunalnych, odpadów zielonych lub pozostałości z sortowania odpadów komunalnych przeznaczonych do składowania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ze wszystkimi podmiotami odbierającymi odpady komunalne od właścicieli nieruchomości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którzy wykonują swoją działalność w ramach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u gospodarki odpadami komunalny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Przedsiębiorca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bierający odpady komunalne od właścicieli nieruchomości,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który:…. nie przekazuje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ebranych od właścicieli nieruchomości zmieszanych odpadów komunalnych, odpadów zielonych oraz pozostałości z sortowania odpadów komunalnych przeznaczonych do składowania do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regionalnej instalacji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 przetwarzania odpadów komunal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– </a:t>
            </a: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podlega karze pieniężnej w wysokości od 500 zł do 2000 zł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a pierwszy ujawniony przypad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Prawo unijne -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planowana gospodarka odpadami</a:t>
            </a: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197000"/>
            <a:ext cx="8300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rawo Unii Europejskiej zobowiązuje wszystkie kra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członkowskie do prowadzenia planowej gospodarki odpad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to bardzo ważny instrument służący opracowaniu systemu gospodarki odpadami, jak i jego prawidłowemu funkcjonowa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nowią cenne źródło informacji na temat stanu gospodarki odpadami na danym terenie, między innymi, dla podejmowanych strategicznych decyzji dotyczących gospodarowania odpa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547640" y="1484280"/>
            <a:ext cx="626436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cc"/>
                </a:solidFill>
                <a:latin typeface="Verdana"/>
              </a:rPr>
              <a:t>Dziękuję za uwagę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Cambria"/>
              </a:rPr>
              <a:t>Anna Grapatyn-Korzeniowska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Cambria"/>
              </a:rPr>
              <a:t>Z-ca dyrektora DROŚ UM WP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Cambria"/>
              </a:rPr>
              <a:t>a.korzeniowska@pomorskie.</a:t>
            </a:r>
            <a:r>
              <a:rPr b="1" lang="pl-PL" sz="1600" spc="-1" strike="noStrike">
                <a:solidFill>
                  <a:srgbClr val="0066cc"/>
                </a:solidFill>
                <a:latin typeface="Cambria"/>
              </a:rPr>
              <a:t>eu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8" name="Picture 5" descr="listownik naglowek UMWP ogolny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1381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539640" y="6093000"/>
            <a:ext cx="80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l. Okopowa 21/27, Gdańsk 80-810, tel. 58 32 68 661, fax. 58 32 68 663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omorskie.eu</a:t>
            </a:r>
            <a:r>
              <a:rPr b="0" lang="pl-PL" sz="14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pl-P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rzad.pomorskie.eu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Aktualizacja PGOWP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Konieczność aktualizacji obowiązującego dokumentu wynika wpr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 przepisów dyrektywy 2008/98/WE, c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zedstawienia aktualnego stanu gospodarki odpadami w województwie pomors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kreślenia potrzeb wynikających z diagnozy aktualnego stanu gospodarki odpa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zedstawienia prognozy zmian w dziedzinie gospodarki odpa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pracowania programu strategicznego do roku 2016 z perspektywą do roku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Plany Gospodarki Odpadami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dla Województwa Pomor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 Gospodarki Odpadami na lata 2003-2006 z uwzględnieniem perspektywy na lata 2007-2010, przyjęty uchwałą Sejmiku Województwa Pomorskiego Nr 153/XIII/03 w dniu 29 września 2003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 Gospodarki Odpadami na lata 2007-2010 z uwzględnieniem perspektywy na lata 2011-2014, przyjęty uchwałą SWP Nr 191/XII/07       w dniu 24 września 2007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ktualizacja PGOWP 2010 przyjęta uchwałą SWP Nr 1006/XXXIX/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 dniu 26 października 200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16 listopada 2010 r. Uchwałą Nr 1440/372/10 Zarząd Województ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omorskiego przyjął harmonogram prac nad aktualizacją PGOWP 2010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ktualizacja  harmonogramu – Uchwała Zarządu Wojewódz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0 sierpn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507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Harmonogram prac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nad aktualizacją PGOWP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istopad 2010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– utworzenie Zespołu Zadaniowego ds. aktualizacji PGOWP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Marzec 201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utworzenie Rady Konsultacyjnej ds. aktualizacji PGOWP 2010 (Uchwała ZWP Nr 259/30/11 z dnia 15 marca 2011 r.), jako organu opiniodawczo-doradcz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 skład Rady Konsultacyjnej wchodzą przedstawiciele administra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ządowej, jednostek samorządów terytorialnych, organizacji pozarząd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raz szkół wyższych z terenu województwa pomorskiego, któr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ziałalność istotna jest z punktu widzenia ochrony środowisk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tychczasowe spotkania Rady Konsultacyjnej odbyły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 kwietnia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9 czerwca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sierpnia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Harmonogram prac </a:t>
            </a: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nad aktualizacją PGOWP 2010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Październik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01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rawozdania z realizacji PGOWP za lata 2009-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Październik 201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– wyłonienie wykonawcy strategicznej oceny oddziaływania planu na środowisko projektu PGOWP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istopad 201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 opracowanie projektu PGOWP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tyczeń 2012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zyjęcie przez Zarząd Województwa Pomorskiego projektu PGOWP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uty 2012-Marzec 201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procedura opiniowania dokumentu przez organy wykonawcze gmin nie będących członkami związków międzygminnych , organy wykonawcze związków międzygminnych, dyrektora RZG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uty 201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konsultacje społeczne projektu PGOWP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Kwiecień 2012- Maj 201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procedura opiniowania dokumentu przez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inistra Środow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Harmonogram prac </a:t>
            </a:r>
            <a:br>
              <a:rPr sz="2400"/>
            </a:br>
            <a:r>
              <a:rPr b="1" lang="pl-PL" sz="2400" spc="-1" strike="noStrike">
                <a:solidFill>
                  <a:srgbClr val="0066cc"/>
                </a:solidFill>
                <a:latin typeface="Cambria"/>
              </a:rPr>
              <a:t>nad aktualizacją PGOWP 2010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Maj 201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– przyjęcie przez Zarząd Województwa Pomorskiego projektu PGOWP 2016 z uwzględnieniem uwag z konsultacji społecznych oraz uwag organów opiniujących projekt doku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Czerwiec 2012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przedłożenie Sejmikowi Województwa Pomorskiego „Planu Gospodarki Odpadami dla Województwa Pomorskiego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 uwzględnieniem perspektywy do 2022 r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ipiec 2012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 przekazanie uchwalonego Planu do M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Z realizacji planów gospodarki odpadami sporządzane są sprawozd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bejmujące okres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3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prawozdania z realizacji PGOWP 201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a lata 2011-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za lata 2014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prawozdania zawierają informacje dotyczące realizacji postanowień plan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cenę stanu gospodarki odpadami, ocenę stanu realizacji zadań oraz osiągnięt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el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3282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PGOWP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mbria"/>
              </a:rPr>
              <a:t>PGOWP 2016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pracowany zostanie w oparciu  o zmiany jakie wnios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chwalona przez Sejm RP w dniu 1 lipca 2011 r. 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Ustawa o zmianie ustaw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o utrzymaniu czystości i porządku w gminach oraz niektórych innych ust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m in. ustawy o odpad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okument ten zgodny będzie z uchwalonym Krajowym Planem Gospodar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dpadami 2014, Polityką ekologiczną Państwa oraz z podstawowym ak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awnym UE, dotyczącym gospodarki odpadami – dyrektywą 2008/98/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6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Plany gospodarki odpadami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ambria"/>
              </a:rPr>
              <a:t> od 1 styczni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opracowywane będą na poziomie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krajowym  i wojewó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ak potrzeby wykonania planów gospodarki odpadami  na szczeb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     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powiatowym i gm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lany gospodarki odpadami podlegać będą aktualizacji nie rzadziej niż    co</a:t>
            </a:r>
            <a:r>
              <a:rPr b="0" lang="en-US" sz="20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ambria"/>
              </a:rPr>
              <a:t>6 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3:31:03Z</dcterms:created>
  <dc:creator>aorlowska</dc:creator>
  <dc:description/>
  <dc:language>en-US</dc:language>
  <cp:lastModifiedBy>kawisniewska</cp:lastModifiedBy>
  <dcterms:modified xsi:type="dcterms:W3CDTF">2011-08-26T06:41:29Z</dcterms:modified>
  <cp:revision>131</cp:revision>
  <dc:subject/>
  <dc:title>Slajd 1</dc:title>
</cp:coreProperties>
</file>